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E88-6BBF-4203-91C4-E6BACB14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F50-7618-4C56-BD78-737A18E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312-AA46-4882-AA60-2A384D6B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EFE-F386-43D9-91AD-F335448D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3228-9266-479E-8C6A-33462DFB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22AC-8B5D-4FD6-95C7-18D9FFE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81F3-C031-41BC-AE26-92734F5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219-E0C8-44DA-8E16-43201B5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1EB-A390-4505-8B3A-BEB9892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47C-E0D7-4506-A350-96EC9BD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D212-4AB0-48EE-A6FA-92C179A6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31D-861F-4B09-B8C4-2D42BA5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889C-5461-4828-B68B-6774B5F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1B4-79A9-48CF-872B-31759F11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2C1D-96AE-4BD7-8033-1DF477DC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8BBA-51FE-49F9-A908-A4857F01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CFD-1816-4447-AED0-AC848DD8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9F9-5151-4B2C-B0CA-79B9619A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F87-C873-4406-A953-95E28376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36B-8C44-4FE2-BC54-373DCD9D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86E-FA68-46C4-BCAD-ACDC3998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17C-0029-40B6-BC98-B9EC46C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ADC-4E56-4C94-A4A7-6091EFE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5BB-810C-4A94-B56C-366CCA4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EDCE-70EE-44B9-AA9A-512E76E13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74E-173E-4B35-BE39-1E49BAB8F89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04-19a-Microtubules-NL"/>
          <p:cNvPicPr/>
          <p:nvPr/>
        </p:nvPicPr>
        <p:blipFill>
          <a:blip r:embed="rId1"/>
          <a:stretch/>
        </p:blipFill>
        <p:spPr>
          <a:xfrm>
            <a:off x="228600" y="320040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A Tour of the Cell”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94" name="Picture 8" descr="04-06bx-PlantCells"/>
          <p:cNvPicPr/>
          <p:nvPr/>
        </p:nvPicPr>
        <p:blipFill>
          <a:blip r:embed="rId2"/>
          <a:stretch/>
        </p:blipFill>
        <p:spPr>
          <a:xfrm>
            <a:off x="2895480" y="160020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04-02b-LymphocyteSEM-L"/>
          <p:cNvPicPr/>
          <p:nvPr/>
        </p:nvPicPr>
        <p:blipFill>
          <a:blip r:embed="rId3"/>
          <a:srcRect l="7684" t="3489" r="2399" b="14122"/>
          <a:stretch/>
        </p:blipFill>
        <p:spPr>
          <a:xfrm>
            <a:off x="5562720" y="2971800"/>
            <a:ext cx="2590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Functions of Membrane Protein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9" name="Picture 6" descr="04-08-MembraneProteinFxn-L"/>
          <p:cNvPicPr/>
          <p:nvPr/>
        </p:nvPicPr>
        <p:blipFill>
          <a:blip r:embed="rId1"/>
          <a:srcRect l="0" t="0" r="0" b="5186"/>
          <a:stretch/>
        </p:blipFill>
        <p:spPr>
          <a:xfrm>
            <a:off x="838080" y="1676520"/>
            <a:ext cx="784872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Nucleu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ntrol cent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urrounded by nuclear envelop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milar to plasma 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romati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NA &amp; other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romosome:  each fiber of chromati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ooks like tangled mes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ucleolus:  ribosome produc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Rib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t in nucleu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ild cell’s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suspended in cytoso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attached to endoplasmic reticulu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4" name="Picture 4" descr="04-06a-AnimalCell-L"/>
          <p:cNvPicPr/>
          <p:nvPr/>
        </p:nvPicPr>
        <p:blipFill>
          <a:blip r:embed="rId1"/>
          <a:stretch/>
        </p:blipFill>
        <p:spPr>
          <a:xfrm>
            <a:off x="4038480" y="2104920"/>
            <a:ext cx="4910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Nucleus &amp; Rib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6" name="Picture 4" descr="04-09-Nucleus-L"/>
          <p:cNvPicPr/>
          <p:nvPr/>
        </p:nvPicPr>
        <p:blipFill>
          <a:blip r:embed="rId1"/>
          <a:stretch/>
        </p:blipFill>
        <p:spPr>
          <a:xfrm>
            <a:off x="1523880" y="1665360"/>
            <a:ext cx="61819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How DNA Controls the Cell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fers coded message to RN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NA carries message out of nucleus to rest of cel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ells ribosome what protein to mak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9" name="Picture 6" descr="04-10-NucleusFxn-L"/>
          <p:cNvPicPr/>
          <p:nvPr/>
        </p:nvPicPr>
        <p:blipFill>
          <a:blip r:embed="rId1"/>
          <a:srcRect l="3362" t="3335" r="5161" b="4668"/>
          <a:stretch/>
        </p:blipFill>
        <p:spPr>
          <a:xfrm>
            <a:off x="5029200" y="1676520"/>
            <a:ext cx="3660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membrane Syste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4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ndoplasmic reticulu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olgi apparatu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acuo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2" name="Picture 4" descr="04-06a-AnimalCell-L"/>
          <p:cNvPicPr/>
          <p:nvPr/>
        </p:nvPicPr>
        <p:blipFill>
          <a:blip r:embed="rId1"/>
          <a:stretch/>
        </p:blipFill>
        <p:spPr>
          <a:xfrm>
            <a:off x="3962520" y="2666880"/>
            <a:ext cx="4910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ystem of tubes &amp; sac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anufactures molecu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ough &amp; smooth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5" name="Picture 5" descr="04-11-ER-L"/>
          <p:cNvPicPr/>
          <p:nvPr/>
        </p:nvPicPr>
        <p:blipFill>
          <a:blip r:embed="rId1"/>
          <a:stretch/>
        </p:blipFill>
        <p:spPr>
          <a:xfrm>
            <a:off x="4800600" y="1828800"/>
            <a:ext cx="410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Rough 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ibosomes on the outsid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duce 2 types of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retory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port                             vesicles:  bud                              from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8" name="Picture 6" descr="04-12-rERfxn-L"/>
          <p:cNvPicPr/>
          <p:nvPr/>
        </p:nvPicPr>
        <p:blipFill>
          <a:blip r:embed="rId1"/>
          <a:srcRect l="1958" t="1998" r="1958" b="4668"/>
          <a:stretch/>
        </p:blipFill>
        <p:spPr>
          <a:xfrm>
            <a:off x="4038480" y="2971800"/>
            <a:ext cx="48769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6201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Smooth 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 riboso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ynthesis of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tero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x hormon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etox of drug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1" name="Picture 6" descr="04-11-ER-L"/>
          <p:cNvPicPr/>
          <p:nvPr/>
        </p:nvPicPr>
        <p:blipFill>
          <a:blip r:embed="rId1"/>
          <a:stretch/>
        </p:blipFill>
        <p:spPr>
          <a:xfrm>
            <a:off x="4876920" y="1676520"/>
            <a:ext cx="410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Golgi Apparatu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efines, stores &amp; distributes produc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ose partnership with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4" name="Picture 4" descr="04-13-GolgiApparatus-L"/>
          <p:cNvPicPr/>
          <p:nvPr/>
        </p:nvPicPr>
        <p:blipFill>
          <a:blip r:embed="rId1"/>
          <a:stretch/>
        </p:blipFill>
        <p:spPr>
          <a:xfrm>
            <a:off x="304920" y="3048120"/>
            <a:ext cx="86011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1578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Microscop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ight microscop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ible light passes through specime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cular x objective = magnifica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Up to 1000x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98" name="Picture 5" descr="04-02a-LymphocyteLM-L"/>
          <p:cNvPicPr/>
          <p:nvPr/>
        </p:nvPicPr>
        <p:blipFill>
          <a:blip r:embed="rId1"/>
          <a:srcRect l="24879" t="23421" r="24879" b="38042"/>
          <a:stretch/>
        </p:blipFill>
        <p:spPr>
          <a:xfrm>
            <a:off x="4724280" y="3505320"/>
            <a:ext cx="4038840" cy="30826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9"/>
          <p:cNvGrpSpPr/>
          <p:nvPr/>
        </p:nvGrpSpPr>
        <p:grpSpPr>
          <a:xfrm>
            <a:off x="1752480" y="4038480"/>
            <a:ext cx="2407320" cy="2821680"/>
            <a:chOff x="1752480" y="4038480"/>
            <a:chExt cx="2407320" cy="2821680"/>
          </a:xfrm>
        </p:grpSpPr>
        <p:pic>
          <p:nvPicPr>
            <p:cNvPr id="100" name="Picture 6" descr=""/>
            <p:cNvPicPr/>
            <p:nvPr/>
          </p:nvPicPr>
          <p:blipFill>
            <a:blip r:embed="rId2"/>
            <a:stretch/>
          </p:blipFill>
          <p:spPr>
            <a:xfrm>
              <a:off x="1752480" y="4038480"/>
              <a:ext cx="238140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7"/>
            <p:cNvSpPr/>
            <p:nvPr/>
          </p:nvSpPr>
          <p:spPr>
            <a:xfrm>
              <a:off x="1790640" y="6553080"/>
              <a:ext cx="23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Comic Sans MS"/>
                </a:rPr>
                <a:t>Owen and the microscope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661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reakdown body”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c of digestive enzy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estroy harmful bacteri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ecycle parts of damaged organel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ost plant                                        cells lack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7" name="Picture 4" descr="04-14-LysosomeFxn-L"/>
          <p:cNvPicPr/>
          <p:nvPr/>
        </p:nvPicPr>
        <p:blipFill>
          <a:blip r:embed="rId1"/>
          <a:srcRect l="3209" t="48668" r="0" b="3256"/>
          <a:stretch/>
        </p:blipFill>
        <p:spPr>
          <a:xfrm>
            <a:off x="3886200" y="3962520"/>
            <a:ext cx="4886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es:  Nutrient Digesti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61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od (nutrients) enter cel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od engulfed by food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 fuses with food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emicals in lysosome digest foo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neficial                              products                               release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0" name="Picture 4" descr="04-14-LysosomeFxn-L"/>
          <p:cNvPicPr/>
          <p:nvPr/>
        </p:nvPicPr>
        <p:blipFill>
          <a:blip r:embed="rId1"/>
          <a:srcRect l="3209" t="0" r="0" b="52676"/>
          <a:stretch/>
        </p:blipFill>
        <p:spPr>
          <a:xfrm>
            <a:off x="3505320" y="3733920"/>
            <a:ext cx="52671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1578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al Storage Diseas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ay-Sachs diseas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ene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s lack lipid-digesting enzym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erve cells accumulate excess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e in childhoo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5562720" y="1676520"/>
            <a:ext cx="3581280" cy="5182200"/>
            <a:chOff x="5562720" y="1676520"/>
            <a:chExt cx="3581280" cy="5182200"/>
          </a:xfrm>
        </p:grpSpPr>
        <p:pic>
          <p:nvPicPr>
            <p:cNvPr id="164" name="Picture 5" descr=""/>
            <p:cNvPicPr/>
            <p:nvPr/>
          </p:nvPicPr>
          <p:blipFill>
            <a:blip r:embed="rId1"/>
            <a:stretch/>
          </p:blipFill>
          <p:spPr>
            <a:xfrm>
              <a:off x="5562720" y="1676520"/>
              <a:ext cx="3311280" cy="47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6"/>
            <p:cNvSpPr/>
            <p:nvPr/>
          </p:nvSpPr>
          <p:spPr>
            <a:xfrm>
              <a:off x="7086600" y="6521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Comic Sans MS"/>
                </a:rPr>
                <a:t>University of AZ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Vacuo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ariety of functio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torage, transport, etc…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 have a large central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8" name="Picture 5" descr="04-15-Vacuoles-L"/>
          <p:cNvPicPr/>
          <p:nvPr/>
        </p:nvPicPr>
        <p:blipFill>
          <a:blip r:embed="rId1"/>
          <a:srcRect l="0" t="0" r="50064" b="5958"/>
          <a:stretch/>
        </p:blipFill>
        <p:spPr>
          <a:xfrm>
            <a:off x="457200" y="3247920"/>
            <a:ext cx="3809880" cy="3610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04-15-Vacuoles-L"/>
          <p:cNvPicPr/>
          <p:nvPr/>
        </p:nvPicPr>
        <p:blipFill>
          <a:blip r:embed="rId2"/>
          <a:srcRect l="50064" t="0" r="0" b="4713"/>
          <a:stretch/>
        </p:blipFill>
        <p:spPr>
          <a:xfrm>
            <a:off x="4952880" y="320040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3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membrane Review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1" name="Picture 6" descr="04-16-EndomembraneSystem-L"/>
          <p:cNvPicPr/>
          <p:nvPr/>
        </p:nvPicPr>
        <p:blipFill>
          <a:blip r:embed="rId1"/>
          <a:srcRect l="1658" t="2080" r="3216" b="4745"/>
          <a:stretch/>
        </p:blipFill>
        <p:spPr>
          <a:xfrm>
            <a:off x="2286000" y="1600200"/>
            <a:ext cx="44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38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ergy-Converting Organel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loroplas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nly in plants &amp; some protis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4" name="Picture 5" descr="04-17-Chloroplast-L"/>
          <p:cNvPicPr/>
          <p:nvPr/>
        </p:nvPicPr>
        <p:blipFill>
          <a:blip r:embed="rId1"/>
          <a:srcRect l="0" t="0" r="0" b="4745"/>
          <a:stretch/>
        </p:blipFill>
        <p:spPr>
          <a:xfrm>
            <a:off x="4191120" y="1981080"/>
            <a:ext cx="46288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38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ergy-Converting Organel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itochondri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ular respira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nergy from food converted to chemical energy (ATP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st all                                 eukaryotic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7" name="Picture 7" descr="04-18-Mitochondrion-L"/>
          <p:cNvPicPr/>
          <p:nvPr/>
        </p:nvPicPr>
        <p:blipFill>
          <a:blip r:embed="rId1"/>
          <a:srcRect l="0" t="1085" r="0" b="4238"/>
          <a:stretch/>
        </p:blipFill>
        <p:spPr>
          <a:xfrm>
            <a:off x="4038480" y="3581280"/>
            <a:ext cx="4948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ytoskelet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bers that extend through cytoplas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vides suppor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chors organel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0" name="Picture 5" descr="04-19a-Microtubules-L"/>
          <p:cNvPicPr/>
          <p:nvPr/>
        </p:nvPicPr>
        <p:blipFill>
          <a:blip r:embed="rId1"/>
          <a:srcRect l="5424" t="1998" r="7773" b="16667"/>
          <a:stretch/>
        </p:blipFill>
        <p:spPr>
          <a:xfrm>
            <a:off x="2743200" y="3657600"/>
            <a:ext cx="35053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ilia &amp; Flagella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661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xtensions of cytoskelet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puls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luid movemen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3" name="Picture 9" descr="04-20a-Sperm-NL"/>
          <p:cNvPicPr/>
          <p:nvPr/>
        </p:nvPicPr>
        <p:blipFill>
          <a:blip r:embed="rId1"/>
          <a:srcRect l="3211" t="8599" r="4351" b="21954"/>
          <a:stretch/>
        </p:blipFill>
        <p:spPr>
          <a:xfrm>
            <a:off x="228600" y="3505320"/>
            <a:ext cx="3581280" cy="23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04-20b-ProtistCilia-L"/>
          <p:cNvPicPr/>
          <p:nvPr/>
        </p:nvPicPr>
        <p:blipFill>
          <a:blip r:embed="rId2"/>
          <a:srcRect l="3645" t="3256" r="8133" b="15276"/>
          <a:stretch/>
        </p:blipFill>
        <p:spPr>
          <a:xfrm>
            <a:off x="3657600" y="4114800"/>
            <a:ext cx="250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04-20c-Cilia-L"/>
          <p:cNvPicPr/>
          <p:nvPr/>
        </p:nvPicPr>
        <p:blipFill>
          <a:blip r:embed="rId3"/>
          <a:srcRect l="4720" t="4590" r="6605" b="12602"/>
          <a:stretch/>
        </p:blipFill>
        <p:spPr>
          <a:xfrm>
            <a:off x="5867280" y="2438280"/>
            <a:ext cx="2368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nt Cell Surfac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766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urround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tection, support, prevents cell from explod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ade of???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smodesmata:                  connect adjacent                   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8" name="Picture 4" descr="04-21-Plasmodesmata-L"/>
          <p:cNvPicPr/>
          <p:nvPr/>
        </p:nvPicPr>
        <p:blipFill>
          <a:blip r:embed="rId1"/>
          <a:stretch/>
        </p:blipFill>
        <p:spPr>
          <a:xfrm>
            <a:off x="4724280" y="3505320"/>
            <a:ext cx="41148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1578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Microscop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876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ectron microscop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tter resolving pow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Up to 100,000x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canning EM:  surfac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mission EM:  internal par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04" name="Picture 4" descr="04-02b-LymphocyteSEM-L"/>
          <p:cNvPicPr/>
          <p:nvPr/>
        </p:nvPicPr>
        <p:blipFill>
          <a:blip r:embed="rId1"/>
          <a:srcRect l="5041" t="3489" r="3720" b="11461"/>
          <a:stretch/>
        </p:blipFill>
        <p:spPr>
          <a:xfrm>
            <a:off x="6019920" y="160020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4-02c-LymphocyteTEM-L"/>
          <p:cNvPicPr/>
          <p:nvPr/>
        </p:nvPicPr>
        <p:blipFill>
          <a:blip r:embed="rId2"/>
          <a:srcRect l="18000" t="2761" r="17001" b="12954"/>
          <a:stretch/>
        </p:blipFill>
        <p:spPr>
          <a:xfrm>
            <a:off x="6095880" y="4267080"/>
            <a:ext cx="259092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Animal Cell Surfac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 cell wa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xtracellular matrix:  holds cells togeth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 junctions:  connect adjace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91" name="Picture 4" descr="04-22-CellJunctions-L"/>
          <p:cNvPicPr/>
          <p:nvPr/>
        </p:nvPicPr>
        <p:blipFill>
          <a:blip r:embed="rId1"/>
          <a:stretch/>
        </p:blipFill>
        <p:spPr>
          <a:xfrm>
            <a:off x="4114800" y="1828800"/>
            <a:ext cx="48862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Kinds of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2971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karyo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ukaryo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08" name="Picture 4" descr="04-04-CellSizes-L"/>
          <p:cNvPicPr/>
          <p:nvPr/>
        </p:nvPicPr>
        <p:blipFill>
          <a:blip r:embed="rId1"/>
          <a:srcRect l="0" t="0" r="0" b="3815"/>
          <a:stretch/>
        </p:blipFill>
        <p:spPr>
          <a:xfrm>
            <a:off x="3352680" y="182880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Kinds of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11" name="Picture 5" descr="04-VS01-ProVsEukaryote"/>
          <p:cNvPicPr/>
          <p:nvPr/>
        </p:nvPicPr>
        <p:blipFill>
          <a:blip r:embed="rId1"/>
          <a:srcRect l="0" t="0" r="0" b="4571"/>
          <a:stretch/>
        </p:blipFill>
        <p:spPr>
          <a:xfrm>
            <a:off x="380880" y="1828800"/>
            <a:ext cx="8467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ukaryotic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 vs.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ytoplasm:  between nucleus &amp; plasma 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ytosol:  fluid portion of cytoplas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35080" y="3809880"/>
            <a:ext cx="4065480" cy="2867040"/>
            <a:chOff x="235080" y="3809880"/>
            <a:chExt cx="4065480" cy="2867040"/>
          </a:xfrm>
        </p:grpSpPr>
        <p:pic>
          <p:nvPicPr>
            <p:cNvPr id="115" name="Picture 4" descr="04-06a-AnimalCell-L"/>
            <p:cNvPicPr/>
            <p:nvPr/>
          </p:nvPicPr>
          <p:blipFill>
            <a:blip r:embed="rId1"/>
            <a:stretch/>
          </p:blipFill>
          <p:spPr>
            <a:xfrm>
              <a:off x="685800" y="3809880"/>
              <a:ext cx="361476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6"/>
            <p:cNvSpPr/>
            <p:nvPr/>
          </p:nvSpPr>
          <p:spPr>
            <a:xfrm rot="16200000">
              <a:off x="-271440" y="5054400"/>
              <a:ext cx="13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mic Sans MS"/>
                </a:rPr>
                <a:t>Animal Cel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4800600" y="3809880"/>
            <a:ext cx="4102200" cy="2867040"/>
            <a:chOff x="4800600" y="3809880"/>
            <a:chExt cx="4102200" cy="2867040"/>
          </a:xfrm>
        </p:grpSpPr>
        <p:pic>
          <p:nvPicPr>
            <p:cNvPr id="118" name="Picture 5" descr="04-06b-PlantCell-L"/>
            <p:cNvPicPr/>
            <p:nvPr/>
          </p:nvPicPr>
          <p:blipFill>
            <a:blip r:embed="rId2"/>
            <a:stretch/>
          </p:blipFill>
          <p:spPr>
            <a:xfrm>
              <a:off x="4800600" y="3809880"/>
              <a:ext cx="361476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"/>
            <p:cNvSpPr/>
            <p:nvPr/>
          </p:nvSpPr>
          <p:spPr>
            <a:xfrm rot="16200000">
              <a:off x="8126640" y="48934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mic Sans MS"/>
                </a:rPr>
                <a:t>Plant Cel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2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Structur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661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ostly proteins &amp;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spho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sphate “head”:  water-lov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ipid “tail”:                           water-fear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rm a bilay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2" name="Picture 4" descr="04-07a-PhosBylayMem-L"/>
          <p:cNvPicPr/>
          <p:nvPr/>
        </p:nvPicPr>
        <p:blipFill>
          <a:blip r:embed="rId1"/>
          <a:stretch/>
        </p:blipFill>
        <p:spPr>
          <a:xfrm>
            <a:off x="4267080" y="3505320"/>
            <a:ext cx="4724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Structur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teins inserted in bilay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luid mosaic:  phospholipids &amp; proteins drift aroun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5" name="Picture 4" descr="04-07b-FluiMosaModel-L"/>
          <p:cNvPicPr/>
          <p:nvPr/>
        </p:nvPicPr>
        <p:blipFill>
          <a:blip r:embed="rId1"/>
          <a:srcRect l="0" t="0" r="0" b="4200"/>
          <a:stretch/>
        </p:blipFill>
        <p:spPr>
          <a:xfrm>
            <a:off x="3505320" y="1752480"/>
            <a:ext cx="535752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1578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Functi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lectively permeab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nly certain materials come in or go ou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“traffic” regulated by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ther proteins perform other functio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20:02:26Z</dcterms:created>
  <dc:creator>Dawn G. Keller</dc:creator>
  <dc:description/>
  <dc:language>en-US</dc:language>
  <cp:lastModifiedBy>Lyn Clarkson</cp:lastModifiedBy>
  <dcterms:modified xsi:type="dcterms:W3CDTF">2008-10-23T03:23:21Z</dcterms:modified>
  <cp:revision>27</cp:revision>
  <dc:subject/>
  <dc:title>Chp. 4:  “A Tour of the Cell”</dc:title>
</cp:coreProperties>
</file>